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DADD1-865E-443B-A095-92FF44C50BB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ХИМИЯ В СЕЛЬСКОМ ХОЗЯЙ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49257-5381-4793-9119-5111CD15E1F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Химизация</a:t>
            </a:r>
            <a:r>
              <a:rPr b="1" lang="en-US" sz="1200" spc="-1" strike="noStrike">
                <a:solidFill>
                  <a:srgbClr val="ffff00"/>
                </a:solidFill>
                <a:latin typeface="Calibri"/>
              </a:rPr>
              <a:t> — это одно из направлений научно-техниче­ского прогресса, основанное на широком применении химиче­ских веществ, процессов и методов в различных отраслях, на­пример в сельском хозяй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041F9-CE9F-4295-9D45-4D1183F4248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ff"/>
                </a:solidFill>
                <a:latin typeface="Impact"/>
              </a:rPr>
              <a:t>БАКТЕРИАЛЬНЫЙ РАК ТОМ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E3716-3339-4AD9-BCE7-B8D4155B3E4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5FEE-C56F-4E37-894E-AF6AA1488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95C1-77A5-4E6F-AF8B-C105DF741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87E6-C61E-434D-93FD-E1177C8F9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F7C5-68FA-4831-B9B3-EDB49C436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0581-B495-4A52-8E4F-395FF21C3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F03C-378B-4CFE-88DF-8875B3379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46FA-3E9E-4AB7-B0C5-59EF535B1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A219-BF1B-4508-A44A-7685279D7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C449-26B6-41B6-8837-73B4C5553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55A2-95AE-4E68-9E9C-730938EF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FB3B-B475-46F6-BE84-9DF176DA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43A6-0F02-41E2-9E76-539146F3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B7A5F-C800-4AAB-BE5E-AF782A0BC30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pole_posa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971640" y="333360"/>
            <a:ext cx="691344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ХИМИЯ В СЕЛЬСКОМ ХОЗЯЙСТВЕ</a:t>
            </a:r>
            <a:endParaRPr b="0" lang="en-US" sz="2400" spc="1" strike="noStrike">
              <a:ln w="19080">
                <a:solidFill>
                  <a:srgbClr val="00ff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3024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179280" y="3362760"/>
            <a:ext cx="6408720" cy="30801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Химизация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— это одно из направлений научно-техниче­ского прогресса, основанное на широком применении химиче­ских веществ, процессов и методов в различных отраслях, на­пример в сельском хозяйств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vine-028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041998001i2[1]"/>
          <p:cNvPicPr/>
          <p:nvPr/>
        </p:nvPicPr>
        <p:blipFill>
          <a:blip r:embed="rId1"/>
          <a:stretch/>
        </p:blipFill>
        <p:spPr>
          <a:xfrm>
            <a:off x="324000" y="0"/>
            <a:ext cx="8496000" cy="475308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img1[1]"/>
          <p:cNvPicPr/>
          <p:nvPr/>
        </p:nvPicPr>
        <p:blipFill>
          <a:blip r:embed="rId1"/>
          <a:stretch/>
        </p:blipFill>
        <p:spPr>
          <a:xfrm>
            <a:off x="1042920" y="836640"/>
            <a:ext cx="7129440" cy="518472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gr7a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0283488184[1]"/>
          <p:cNvPicPr/>
          <p:nvPr/>
        </p:nvPicPr>
        <p:blipFill>
          <a:blip r:embed="rId1"/>
          <a:stretch/>
        </p:blipFill>
        <p:spPr>
          <a:xfrm>
            <a:off x="0" y="0"/>
            <a:ext cx="74898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WordArt 5"/>
          <p:cNvSpPr txBox="1"/>
          <p:nvPr/>
        </p:nvSpPr>
        <p:spPr>
          <a:xfrm>
            <a:off x="250920" y="0"/>
            <a:ext cx="8569080" cy="86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АКТЕРИАЛЬНЫЙ РАК ТОМАТА</a:t>
            </a:r>
            <a:endParaRPr b="0" lang="en-US" sz="2400" spc="1" strike="noStrike">
              <a:ln w="0">
                <a:noFill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st111_47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WordArt 5"/>
          <p:cNvSpPr txBox="1"/>
          <p:nvPr/>
        </p:nvSpPr>
        <p:spPr>
          <a:xfrm>
            <a:off x="1763640" y="2997360"/>
            <a:ext cx="2800440" cy="26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ОММОЗ ХЛОПЧАТНИКА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" name="WordArt 6"/>
          <p:cNvSpPr txBox="1"/>
          <p:nvPr/>
        </p:nvSpPr>
        <p:spPr>
          <a:xfrm>
            <a:off x="5508720" y="2997360"/>
            <a:ext cx="32335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АКТЕРИАЛЬНАЯ РЯБУХА ТАБАКА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8" name="WordArt 7"/>
          <p:cNvSpPr txBox="1"/>
          <p:nvPr/>
        </p:nvSpPr>
        <p:spPr>
          <a:xfrm>
            <a:off x="108000" y="6381720"/>
            <a:ext cx="330660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ЕРЕБРИСТАЯ БОЛЕЗНЬ СВЕКЛЫ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Bir_agr_002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WordArt 5"/>
          <p:cNvSpPr txBox="1"/>
          <p:nvPr/>
        </p:nvSpPr>
        <p:spPr>
          <a:xfrm>
            <a:off x="1979640" y="5445000"/>
            <a:ext cx="4680000" cy="114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ЕЦ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4-11-24T10:56:54Z</dcterms:modified>
  <cp:revision>6</cp:revision>
  <dc:subject/>
  <dc:title>PowerPoint Presentation</dc:title>
</cp:coreProperties>
</file>